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ED4-E666-491E-B950-41C5A21D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4D1-2E62-4F43-8E05-D718E56F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E96-6892-4D1C-821C-5914158F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2C4-1011-4986-B173-969A14F4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5E30-BD52-4232-ACD8-32E721CB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24CC-A618-42DE-83B7-5866BFF4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5355-E5B4-4154-A467-9E7F6249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809F-0237-4C05-91BB-AF399799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3F4D-3993-49F6-AE6F-ECFD8088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D12E-E028-4E1A-AD7A-8EA8F6C5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85EC-CD05-4CE4-B374-AF6B78EF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9A40-F5E8-42C8-912B-F9FB645E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6E78-4888-4124-8050-3037C935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067F-029C-413E-869C-6550BC14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5F58-2D16-442A-81CC-EA016085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0C05-B020-4630-A317-91734BB5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E561-8DB5-4764-A514-72E8BEA0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978-D9EA-407B-B44A-A6221DC3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007-A893-4089-8A1A-2805BFE7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262-FEB2-46F3-BADE-412B3286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0AA-6530-404D-B092-EDA1B9D8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4F5-EB74-4E82-864A-83D3562F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11D-A2A9-4DC8-9976-9B83FDA0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9EA-DD72-4852-B317-18042F41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135B-050E-48F5-BDC5-DF952046E94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81A8-5505-49F4-A7A0-C7DD623C06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D208-12EA-423E-A4D5-5D262BFDABF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1B7C-9D86-426F-BDE2-19F1AB38AC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Teorije o obolevanju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0040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nislav Petrovi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2C25-3C18-461F-B2D9-6AEAE66181C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86A36B9-F51E-4D03-80F4-C2FDAAC726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ffcc"/>
                </a:solidFill>
                <a:latin typeface="Arial Narrow"/>
              </a:rPr>
              <a:t>TEORIJA O POREKLU BOLEST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Teoriju je formulisao britanski epidemiolog T. Makjou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Centralnu ulogu u nastanku bolesti ima ISHRANA, PONAŠANJE i FAKTORI SRED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EE8-7980-4E6C-8262-3D71727699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01F23-28EF-4C3B-A889-87FF3908BB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6094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l-SI" sz="2800" spc="-1" strike="noStrike">
                <a:solidFill>
                  <a:srgbClr val="ff9966"/>
                </a:solidFill>
                <a:latin typeface="Arial"/>
              </a:rPr>
              <a:t>Prvobitni čovek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: prikupljao sitne plodove siromašne u šećeru, lovio, stalno bio u pokretu...Dominira kabasta biljna hrana. Mogućnost infekcije minimal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sl-SI" sz="2800" spc="-1" strike="noStrike">
                <a:solidFill>
                  <a:srgbClr val="ff9966"/>
                </a:solidFill>
                <a:latin typeface="Arial"/>
              </a:rPr>
              <a:t>Vezivanje za zemlju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: obradjivanje zemlje, pripitomljavanje životinj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Posledica: veći broj infektivnih agenasa u okruženju; suša, poplave,glad, zara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sl-SI" sz="2800" spc="-1" strike="noStrike">
                <a:solidFill>
                  <a:srgbClr val="ff9966"/>
                </a:solidFill>
                <a:latin typeface="Arial"/>
              </a:rPr>
              <a:t>Industrijska revolucija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: bolja ishrana, jači imunitet, manje zaraznih bolesti. Preradjena hrana, manje zaštitnih elemenata, fizička neaktivnostdegenerativne bole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581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D3F-8B55-47F9-8A63-A62C2624840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74C97-489B-4F51-8547-F102E7AC79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ffcc"/>
                </a:solidFill>
                <a:latin typeface="Arial Narrow"/>
              </a:rPr>
              <a:t>Posledice ishrane i načina život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1397160"/>
          <a:ext cx="8991720" cy="4743360"/>
        </p:xfrm>
        <a:graphic>
          <a:graphicData uri="http://schemas.openxmlformats.org/drawingml/2006/table">
            <a:tbl>
              <a:tblPr/>
              <a:tblGrid>
                <a:gridCol w="2997360"/>
                <a:gridCol w="2997000"/>
                <a:gridCol w="2997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rupa boles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Bolesti i stanja koji čine gru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oba kada dominiraj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Bolesti siromašt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Zaraze, pothranjen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“</a:t>
                      </a:r>
                      <a:r>
                        <a:rPr b="1" lang="sl-SI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iže” faze civilizacijskog razvo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Bolesti obil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Bolesti srca i krvnih sudova, rak, dijabetes, traumatizam, narkomani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avremeno dob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enatalna oboljen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Genetski poremećej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ve epoh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2C2-81F3-44F0-B01D-336B5AE0E8F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58BF3-866F-4C3C-9C44-05BF377127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ffcc"/>
                </a:solidFill>
                <a:latin typeface="Arial Narrow"/>
              </a:rPr>
              <a:t>Zamerke teoriji o poreklu bolest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Precenjena je uloga ishrane u pojavi zaraznih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Ignorisane su socijalno-ekonomske determinante obolevanja (razlikeu obolevanju medju socijalnim grupama u okviru iste epoh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808-7AA7-4E96-954A-D0536AD774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C2C6D-0388-4A82-B596-D87DB29DAD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ffcc"/>
                </a:solidFill>
                <a:latin typeface="Arial Narrow"/>
              </a:rPr>
              <a:t>UVO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Zbog čega čovek obolev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Zbog čega čovek umi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Razjašnjeni su uzroci obolevanj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l-SI" sz="2000" spc="-1" strike="noStrike">
                <a:solidFill>
                  <a:srgbClr val="ff9966"/>
                </a:solidFill>
                <a:latin typeface="Arial"/>
              </a:rPr>
              <a:t>na pojedinačnom nivou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ff3300"/>
                </a:solidFill>
                <a:latin typeface="Arial"/>
              </a:rPr>
              <a:t>(obolela osoba od botulizma jela je čvarke zalivene mašću koje su nedeljama stajale u podrum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l-SI" sz="2000" spc="-1" strike="noStrike">
                <a:solidFill>
                  <a:srgbClr val="ff9966"/>
                </a:solidFill>
                <a:latin typeface="Arial"/>
              </a:rPr>
              <a:t>na grupnom nivou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l-SI" sz="2000" spc="-1" strike="noStrike">
                <a:solidFill>
                  <a:srgbClr val="ff3300"/>
                </a:solidFill>
                <a:latin typeface="Arial"/>
              </a:rPr>
              <a:t>učestalo javljanje maligniteta na jednom području zbog povećane koncentracije arsena u vod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Zbog čega se bolest i poremećaji zdravlja javljaju na jednom prostoru u odredjenim vremenskim razmeram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E65-1687-44FE-BCCE-77C6B2F152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21EA1-0961-415F-99A1-203E12AA0A86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60962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cc"/>
                </a:solidFill>
                <a:latin typeface="Arial Narrow"/>
              </a:rPr>
              <a:t>Teorije o obolevanju:</a:t>
            </a:r>
            <a:br>
              <a:rPr sz="3600"/>
            </a:br>
            <a:r>
              <a:rPr b="1" lang="sl-SI" sz="3600" spc="-1" strike="noStrike">
                <a:solidFill>
                  <a:srgbClr val="ffffcc"/>
                </a:solidFill>
                <a:latin typeface="Arial Narrow"/>
              </a:rPr>
              <a:t>	</a:t>
            </a:r>
            <a:br>
              <a:rPr sz="3600"/>
            </a:br>
            <a:r>
              <a:rPr b="1" lang="sl-SI" sz="3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sl-SI" sz="3600" spc="-1" strike="noStrike">
                <a:solidFill>
                  <a:srgbClr val="ffffcc"/>
                </a:solidFill>
                <a:latin typeface="Arial Narrow"/>
              </a:rPr>
              <a:t>1. Teorija epidemiološke </a:t>
            </a:r>
            <a:r>
              <a:rPr b="1" lang="sl-SI" sz="3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sl-SI" sz="3600" spc="-1" strike="noStrike">
                <a:solidFill>
                  <a:srgbClr val="ffffcc"/>
                </a:solidFill>
                <a:latin typeface="Arial Narrow"/>
              </a:rPr>
              <a:t>   </a:t>
            </a:r>
            <a:r>
              <a:rPr b="1" lang="sl-SI" sz="3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sl-SI" sz="3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sl-SI" sz="3600" spc="-1" strike="noStrike">
                <a:solidFill>
                  <a:srgbClr val="ffffcc"/>
                </a:solidFill>
                <a:latin typeface="Arial Narrow"/>
              </a:rPr>
              <a:t>tranzicije</a:t>
            </a:r>
            <a:br>
              <a:rPr sz="3600"/>
            </a:br>
            <a:r>
              <a:rPr b="1" lang="sl-SI" sz="3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sl-SI" sz="3600" spc="-1" strike="noStrike">
                <a:solidFill>
                  <a:srgbClr val="ffffcc"/>
                </a:solidFill>
                <a:latin typeface="Arial Narrow"/>
              </a:rPr>
              <a:t>2. Teorija o poreklu bolesti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1. Teorija epidemiološke tranzic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U istoriji ljudskog društva (u smislu obolevanja) postoje četiri dob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ff9966"/>
                </a:solidFill>
                <a:latin typeface="Arial"/>
              </a:rPr>
              <a:t>Doba pošasti i gla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ff9966"/>
                </a:solidFill>
                <a:latin typeface="Arial"/>
              </a:rPr>
              <a:t>Doba povlačenja pandem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ff9966"/>
                </a:solidFill>
                <a:latin typeface="Arial"/>
              </a:rPr>
              <a:t>Doba degenerativnih i ponašajnih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ff9966"/>
                </a:solidFill>
                <a:latin typeface="Arial"/>
              </a:rPr>
              <a:t>Doba odložene pojave degenerativnih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C94-FB69-4BC4-9F53-30C64423DF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9EED1-1CE1-4944-8549-B3735C0E3AAB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ffcc"/>
                </a:solidFill>
                <a:latin typeface="Arial Narrow"/>
              </a:rPr>
              <a:t>Faze epidemiološke tranzicij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055960"/>
          <a:ext cx="8305560" cy="4270320"/>
        </p:xfrm>
        <a:graphic>
          <a:graphicData uri="http://schemas.openxmlformats.org/drawingml/2006/table">
            <a:tbl>
              <a:tblPr/>
              <a:tblGrid>
                <a:gridCol w="1295280"/>
                <a:gridCol w="1401840"/>
                <a:gridCol w="1403280"/>
                <a:gridCol w="1401840"/>
                <a:gridCol w="1401840"/>
                <a:gridCol w="140148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z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avni uzroci smrt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et na 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rtnost odojčad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čekivano trajanje živo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me trajanja na Zapad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šasti i glad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raze i glad u pandemijskoj i epidemijskoj for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-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-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početka 19. vek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vlačenja pandemi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raze u vidu manjih i proredjenih epidemija, retko gl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-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-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prve polovine 19. vek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generativnih i ponašajnih bolest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onične nezarazne bolest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je od 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je od 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prve polovine 20 vek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ložene pojave degenerativnih bolest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iženje stope smrtnosti od bolesti srca, raka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je od 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je od 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 60-ih godina 20. vek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0E4-2218-40F0-AEA8-F92874979C4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C0536-E563-4E18-9973-A58494193FD5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ffcc"/>
                </a:solidFill>
                <a:latin typeface="Arial Narrow"/>
              </a:rPr>
              <a:t>Prva tri doba završena su u zapadnom svetu i sada se Zapad nalazi u 4. dobu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Srbija i zemlje istočne i jugoistočne Evrope su još uvek u tećoj faz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U zemljama u razvoju još uvek problem predstavljaju zarazne bolesti, ali i MHNB, što se naziva “</a:t>
            </a:r>
            <a:r>
              <a:rPr b="0" lang="sl-SI" sz="2800" spc="-1" strike="noStrike">
                <a:solidFill>
                  <a:srgbClr val="ffff66"/>
                </a:solidFill>
                <a:latin typeface="Arial"/>
              </a:rPr>
              <a:t>dvostruko breme bolesti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” ili “</a:t>
            </a:r>
            <a:r>
              <a:rPr b="0" lang="sl-SI" sz="2800" spc="-1" strike="noStrike">
                <a:solidFill>
                  <a:srgbClr val="ffff66"/>
                </a:solidFill>
                <a:latin typeface="Arial"/>
              </a:rPr>
              <a:t>dvostruka opterećenost bolešću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D5C-63EB-44C3-8B64-14FAEF97F95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7A835-55BC-462A-A7A5-62B0B5239719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HNB u zapadnom svetu pogadjale su bogato stanovništvo, a u nerazvijenom – siromaš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Danas: Bogati su sve                   “mršaviji”, a siromašni radnici “deblji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21337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162920" y="1523880"/>
            <a:ext cx="990360" cy="1752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8408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8120" y="5105520"/>
            <a:ext cx="236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172200" y="4419720"/>
            <a:ext cx="1981080" cy="128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80880" y="1643040"/>
            <a:ext cx="2210040" cy="107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E88-53D8-4CDF-9B51-9D51AE3CE3F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58983-ACD2-4836-80AA-751763C580AB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ffcc"/>
                </a:solidFill>
                <a:latin typeface="Arial Narrow"/>
              </a:rPr>
              <a:t>Realnos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1960-1999.: Smrtnost od koronarne bolesti srca u SADu je opala za 55%, a od apopleksije za 70%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Opala je smrtnost od malignih tumora koji su uzrokovani pušenj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D03-FFD6-48F7-9DBF-45E2D3374F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56C12-F2C4-4BF7-9B29-02FD35377161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ffcc"/>
                </a:solidFill>
                <a:latin typeface="Arial Narrow"/>
              </a:rPr>
              <a:t>Modeli odvijanja epidemiološke tranzicij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58200" cy="511956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ruč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rakteristik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asični – zapad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padna Evropa, Amerika, Australija, Novi Ze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zicija pri kraj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brza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pan, Singap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 počeo kasnije nego na zapadu, ali se odvijao brže. Tranzicija je završ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kući ili odlože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rika, veliki deo Azije i južne Amerik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 II svetskog rata pomoć u hrani ilekovima dovela je do naglog pada mortaliteta; fertilitet je visok; Populaciona ekspanz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F1D-797B-40CE-B467-A774D0347AF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0F096-7F9B-47D5-952A-973EC807FC58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ffcc"/>
                </a:solidFill>
                <a:latin typeface="Arial Narrow"/>
              </a:rPr>
              <a:t>Karakteristike teorij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Teorija epidemiološke tranzicije je još uvek nedovoljno razradjen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ne daje odgovore na sva pitanj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Ukazuje na značaj siromaštva (socijalno-ekonomskih faktora) u nastanku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ukazuje na značaj navika i ponašanja na nastanak bole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529-DB43-46F5-8C66-ACA119E3AF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ABF5A-7FE6-4F40-A660-E1A83FA30089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b</cp:lastModifiedBy>
  <dcterms:modified xsi:type="dcterms:W3CDTF">2005-10-14T09:16:58Z</dcterms:modified>
  <cp:revision>4</cp:revision>
  <dc:subject/>
  <dc:title>PowerPoint Presentation</dc:title>
</cp:coreProperties>
</file>